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573-73DF-4A81-A976-8D92DE32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5E7-C345-4897-95AC-FC375762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140-14C8-4440-81C8-FA9116EE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AF9-FB6B-4246-9C46-0A428C61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0CC4-EC6C-4918-99D9-AD1DAF99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EAD6-F145-4B8D-BE30-F51300C1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AE5B-409D-45AE-A712-F190461C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7593-67A4-4FCF-A44B-F60B7D6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EF7A-5DE6-4D6D-89A5-F5E85D06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BA79-1AEE-4F90-98D8-8F7C6FC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38BE-B7D5-4663-BE4D-F2035DF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B63-B2C2-4184-9DEA-4DAC3514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DBE-0314-43FA-9F94-2710716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949E-2E18-4D8F-A082-2DD93F8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2CA-9CB3-423C-894A-321FD762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6A2-0E1B-453D-B2B6-6750BCE2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6942-F8E3-444B-9343-398A6DE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E61C-AC21-4D81-92C4-BDA862B7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FD89-112E-49F3-92DD-09A03B23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9065-D5BF-45CB-97BA-494DB999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4751-0D2A-4078-85CA-51FBC93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7E75-2FC0-40DD-B88C-64209573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398-3D5D-40C0-A3B3-E7D7290A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7179-04FF-4C77-B011-3FC16190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E38F-796C-46D2-82F8-5E015207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51C6-1B3C-4AC3-AD53-25A4E77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6EBE-4E71-4745-931A-20EDDE0A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4BF6-81B1-4356-A36F-3C4E50A3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CCE2-1D95-4D10-9A5E-2426E955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5B6C-35DD-4896-B62D-F8C8DF33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EAC5-A31A-4DA3-A3BE-88729112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18EE-9FE0-43F8-AA42-2ED6455D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7B57-C409-47B5-85C5-BDE9C431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B8B-E29E-490A-8F6A-A47F1931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7B7F-2FC2-4443-B59C-03C6FDAE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8D58-1E55-442D-A6AD-9614A618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A217-9920-4233-A72A-28C93049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EE17C-18B6-455D-884B-8EAD0DB7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F0081-8E51-400E-A137-930576B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92D74-C8AD-4C76-A71B-8766049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88E0-4CAA-42ED-A792-A526FFBC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DBB5F-077A-431B-ADDB-C001A41A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67260-CC82-47C8-A20D-D3D0C2D2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BB3E6-6D0F-41B4-87AA-68D302EF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748-5CBE-42B5-8C5C-CB0A4E22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C8F7-83BB-4B2D-8247-8CA8C0DC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367A7-5D62-4C23-BDAB-31747F55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D7A0-A617-4714-A878-93A4196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090F-CCB9-4ABB-8E7E-DDB2CEA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08E79-558C-4535-9CA7-1E555508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E438-5162-4F93-AE84-55610C54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3AFBE-62D8-4AD5-BF26-22FF8CA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B9908-6FDA-43BB-AC01-EF895C1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3B9CA-89B0-483C-B7FD-8C79E8BC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AD859-9A06-45F8-B319-BBABE2B3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775-7F3E-4271-9966-32DB556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11D9-F774-4432-AF58-9190546E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623-3300-4854-85FF-61CFB5A8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074-0E56-4AFB-96E7-8755537A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D29-29D8-4611-950D-413431C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DC23-BF17-4E2A-8F04-F7ED968C4F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D3B5-3003-4ABF-8A09-9F146E4828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20F8-0A4B-4BBC-8D55-C2BD5B1A42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C6A4-4C5F-44C0-BC1D-686B93056B7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5B4-57E7-466C-84E7-4891D8C3A84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609480" y="380880"/>
            <a:ext cx="8153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0b9"/>
                </a:solidFill>
                <a:latin typeface="Tempus Sans ITC"/>
              </a:rPr>
              <a:t>SAVING THE ORANGUT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MS910219987[1].wav" descr=""/>
          <p:cNvPicPr/>
          <p:nvPr/>
        </p:nvPicPr>
        <p:blipFill>
          <a:blip r:embed="rId1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MS910220001[1].wav" descr=""/>
          <p:cNvPicPr/>
          <p:nvPr/>
        </p:nvPicPr>
        <p:blipFill>
          <a:blip r:embed="rId2"/>
          <a:stretch/>
        </p:blipFill>
        <p:spPr>
          <a:xfrm>
            <a:off x="-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4" descr="http://t0.gstatic.com/images?q=tbn:ANd9GcTTzggKibEw81auHZO6FWhs_7pXUva5C3_bMTfAwHiDqqeXiYM6dw"/>
          <p:cNvPicPr/>
          <p:nvPr/>
        </p:nvPicPr>
        <p:blipFill>
          <a:blip r:embed="rId3"/>
          <a:stretch/>
        </p:blipFill>
        <p:spPr>
          <a:xfrm>
            <a:off x="1676520" y="1600200"/>
            <a:ext cx="6095880" cy="4565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99"/>
                </a:solidFill>
                <a:latin typeface="Tempus Sans ITC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empus Sans ITC"/>
              </a:rPr>
              <a:t>Brief Information t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447920" y="1143000"/>
          <a:ext cx="6095880" cy="5489640"/>
        </p:xfrm>
        <a:graphic>
          <a:graphicData uri="http://schemas.openxmlformats.org/drawingml/2006/table">
            <a:tbl>
              <a:tblPr/>
              <a:tblGrid>
                <a:gridCol w="2676240"/>
                <a:gridCol w="341964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Know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Don’t Kn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armers burn down/log down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y does Indonesia Government refuse help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Orangutans get harmed in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at Solutions have been already implemen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ood Web Destroyed and Habitat 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5df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o are the parties involv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empus Sans ITC"/>
              </a:rPr>
              <a:t>Main 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verty and Unemploy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wood (Logging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Palm O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Metals such as Go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nd Management and Secur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w Enforcem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empus Sans ITC"/>
              </a:rPr>
              <a:t>Solutions – Logging, Demand For Wood 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28600" y="18288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900157631[1]"/>
          <p:cNvPicPr/>
          <p:nvPr/>
        </p:nvPicPr>
        <p:blipFill>
          <a:blip r:embed="rId1"/>
          <a:stretch/>
        </p:blipFill>
        <p:spPr>
          <a:xfrm>
            <a:off x="7010280" y="5181480"/>
            <a:ext cx="1797120" cy="1333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MC900215545[1]"/>
          <p:cNvPicPr/>
          <p:nvPr/>
        </p:nvPicPr>
        <p:blipFill>
          <a:blip r:embed="rId2"/>
          <a:stretch/>
        </p:blipFill>
        <p:spPr>
          <a:xfrm>
            <a:off x="228600" y="51055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Tempus Sans ITC"/>
              </a:rPr>
              <a:t>Solutions-Demand for Palm Oi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10" descr="http://t3.gstatic.com/images?q=tbn:ANd9GcQos2e_tPjmr57FOi_wUjfqYy-Dcg7EfdWJTUhedohqhs2SvtSm5w"/>
          <p:cNvPicPr/>
          <p:nvPr/>
        </p:nvPicPr>
        <p:blipFill>
          <a:blip r:embed="rId1"/>
          <a:stretch/>
        </p:blipFill>
        <p:spPr>
          <a:xfrm>
            <a:off x="298440" y="4492800"/>
            <a:ext cx="250020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empus Sans ITC"/>
              </a:rPr>
              <a:t>Solutions – Law Enforce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MC900234208[1]"/>
          <p:cNvPicPr/>
          <p:nvPr/>
        </p:nvPicPr>
        <p:blipFill>
          <a:blip r:embed="rId2"/>
          <a:stretch/>
        </p:blipFill>
        <p:spPr>
          <a:xfrm>
            <a:off x="7083360" y="1822320"/>
            <a:ext cx="206712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empus Sans ITC"/>
              </a:rPr>
              <a:t>Solutions - Secur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 unemployed people to work as “security guards” to help protect the affected are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t people who are extremely willing to take the jo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reasonable pa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LS DELETE BEFORE PRESENTATION: Pt 2 – so that they won’t slack off Pt 3- so they won’t except bribes.*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4" descr="MC900295619[1]"/>
          <p:cNvPicPr/>
          <p:nvPr/>
        </p:nvPicPr>
        <p:blipFill>
          <a:blip r:embed="rId1"/>
          <a:stretch/>
        </p:blipFill>
        <p:spPr>
          <a:xfrm>
            <a:off x="7620120" y="228600"/>
            <a:ext cx="1523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empus Sans ITC"/>
              </a:rPr>
              <a:t>Save the Orangutans from Extinc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9" descr="orangutan"/>
          <p:cNvPicPr/>
          <p:nvPr/>
        </p:nvPicPr>
        <p:blipFill>
          <a:blip r:embed="rId1"/>
          <a:srcRect l="0" t="0" r="16666" b="0"/>
          <a:stretch/>
        </p:blipFill>
        <p:spPr>
          <a:xfrm>
            <a:off x="0" y="288936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6:16:49Z</dcterms:created>
  <dc:creator>Rohith</dc:creator>
  <dc:description/>
  <dc:language>en-US</dc:language>
  <cp:lastModifiedBy>VAIO</cp:lastModifiedBy>
  <dcterms:modified xsi:type="dcterms:W3CDTF">2011-09-13T07:49:26Z</dcterms:modified>
  <cp:revision>9</cp:revision>
  <dc:subject/>
  <dc:title>Slide 1</dc:title>
</cp:coreProperties>
</file>